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72697-3EAC-4600-96BF-A4D66CADC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6062F-D736-47D6-A3F4-1C62B7CED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B5C23-6F37-4FA9-ACEC-F1AB7EACF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2BD3C-7DB1-4235-8133-B80224F8F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13C64-7EC4-4BC5-A36B-809E6370D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136C6-0297-49DD-AB20-39B4C1EEB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29F22-DE69-4955-84E6-BF12BC1D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87482-670D-4E5B-B48A-06A40A51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2CDF-4D4F-441B-AB07-D22E84934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3577-5FC0-4986-8112-2F19F2D1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6C096-0B09-4CE7-A180-5ABB03AC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4760E-0EBB-4301-81BA-A5D381031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E572-B505-47F6-ACB3-EDE1EA9F7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O4wP3w8SS4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a:t>
            </a:r>
            <a:endParaRPr b="0" lang="en-US" sz="4400" spc="-1" strike="noStrike">
              <a:solidFill>
                <a:srgbClr val="000000"/>
              </a:solidFill>
              <a:latin typeface="Calibri"/>
            </a:endParaRPr>
          </a:p>
        </p:txBody>
      </p:sp>
      <p:pic>
        <p:nvPicPr>
          <p:cNvPr id="43" name="Picture 2" descr="http://ts3.mm.bing.net/images/thumbnail.aspx?q=1022400070206&amp;id=2480d29a2c8e32790759d69810760d97&amp;url=http%3a%2f%2fwww.forsyth.k12.ga.us%2f13072072183819153%2flib%2f13072072183819153%2fFact_Monster.png"/>
          <p:cNvPicPr/>
          <p:nvPr/>
        </p:nvPicPr>
        <p:blipFill>
          <a:blip r:embed="rId1"/>
          <a:stretch/>
        </p:blipFill>
        <p:spPr>
          <a:xfrm>
            <a:off x="838080" y="1601640"/>
            <a:ext cx="774540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Fact Monster?</a:t>
            </a:r>
            <a:br>
              <a:rPr sz="4000"/>
            </a:b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t Monster is a tween destination for homework help and facts on thousands of</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jects, including sports, entertainment, geography, history, biography, educa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health. Highly ranked in search engines, Fact Monster contains an encyclopedi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manacs, games, quizzes, research tools, holiday features, lots of self-made microsite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ooks, and mor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mographic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thly Page Views &amp; Unique Users</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 million view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 million uniques</a:t>
            </a: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ique User Groups each Month</a:t>
            </a: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under 18</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0% female, 50% ma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students, 2 million professional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5 million use Internet 3-10 hours per week (Web savvy user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million bookmark Fact Monst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 million spend more than 10 minutes on Fact Monster™ each time they visit</a:t>
            </a:r>
            <a:endParaRPr b="0" lang="en-US" sz="1500" spc="-1" strike="noStrike">
              <a:solidFill>
                <a:srgbClr val="000000"/>
              </a:solidFill>
              <a:latin typeface="Calibri"/>
            </a:endParaRPr>
          </a:p>
        </p:txBody>
      </p:sp>
      <p:sp>
        <p:nvSpPr>
          <p:cNvPr id="46" name="Rectangle 3"/>
          <p:cNvSpPr/>
          <p:nvPr/>
        </p:nvSpPr>
        <p:spPr>
          <a:xfrm>
            <a:off x="1219320" y="6019920"/>
            <a:ext cx="624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www.youtube.com/watch?v=O4wP3w8SS4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rowsing Fact Monster</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can I browse Fact Monster by categ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go to any main subject instantly by clicking on the buttons at the left side of the Fact Monster web page. You will find the contents of the almanacs plus links to other Fact Monster features for that subject. To find information from the encyclopedia and dictionary, you need to use the search b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aily feat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om the Fact Monster Home page, you can find our most popular features that, with a few exceptions, change dai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oday's Birthday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Day in Histor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day's Word Quiz</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pelling Be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day's Ana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The New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eatured Articl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onster's Poll (changes regular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What will I find on the Fact Monster site?</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 Monster is an ideal reference site for kids ages 8-14 that provides entertainment and educational resources. It combines the contents of an encyclopedia, a dictionary, an atlas, and several almanacs loaded with statistics, facts, and historical records. A single search engine allows you to search all these sources at o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ts4.mm.bing.net/images/thumbnail.aspx?q=971717420171&amp;id=3812f50c2cf1ca174fbb1ceda1d0ad0a&amp;url=http%3a%2f%2feverygame.files.wordpress.com%2f2009%2f10%2flooney_tunes_thats_all_folks.jpg"/>
          <p:cNvPicPr/>
          <p:nvPr/>
        </p:nvPicPr>
        <p:blipFill>
          <a:blip r:embed="rId1"/>
          <a:stretch/>
        </p:blipFill>
        <p:spPr>
          <a:xfrm>
            <a:off x="1752480" y="990720"/>
            <a:ext cx="5867640" cy="51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21:30:33Z</dcterms:created>
  <dc:creator>ccstudent</dc:creator>
  <dc:description/>
  <dc:language>en-US</dc:language>
  <cp:lastModifiedBy>training</cp:lastModifiedBy>
  <dcterms:modified xsi:type="dcterms:W3CDTF">2011-07-09T13:53:12Z</dcterms:modified>
  <cp:revision>8</cp:revision>
  <dc:subject/>
  <dc:title>Slide 1</dc:title>
</cp:coreProperties>
</file>